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59B90-A560-4968-8593-6917A8E74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E6E34-CA46-48B3-8DF4-F99DE9437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1936D-9AB6-44B5-BA0D-A283AF3D16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BC6DC-BA4A-40C6-8E58-FAC4312E0C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E1D3E-B592-4612-ADDC-1B37306FF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419B1-C076-48AD-96DA-1E41189D2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CFCE-C401-493E-AF3C-E1412EAB3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4FE5-99E7-475B-BC1C-2DA6F045F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BDEA-2C7A-4A2F-933D-BA2899C04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0C525-EE02-4519-8957-A4EF80E0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1BDC0-84D1-43A1-B302-D4D14DFD30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E900A-4B1C-4932-A11C-40A6D5743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400440"/>
            <a:ext cx="3962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56B6-783C-4860-805E-96B07478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6 (University at Buffal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semination of Ontology Best Prac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bian Neuha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ost-Do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rner Ceu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Director of Biomedical Informatics, UB Health Science Facul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85AFA-9E90-45A3-908E-D9E3B02E42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vel 3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ifa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longsid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linical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c science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omedical termin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15E3-BD1A-4271-B525-B1D6DC52EAC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ity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thing which exists, including things and processes, functions and qualities, beliefs and actions, documents and software (Levels 1, 2 and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76D30-FD86-439D-B91D-117A4D0C145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portion of reality that forms the subject-matter of a single science or technology or mode of stud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te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ral infections in m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34A0A-8AF2-4C91-9685-35192B3577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n image, idea, map, picture, name or description ... of some entity or enti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1DDEF-E328-4D4C-A74D-E551942E400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ogue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849920" cy="579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E60F9-77BA-4118-8477-5A6A222797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ational unit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, icons, alphanumeric identifiers ... which refer, or are intended to refer, to ent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92321-66BD-43CE-89AC-D560558CA1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osite representation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built out of representational un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form a structure that mirrors, or is intended to mirror, the entities in som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8953-1ACC-41F5-BC2B-2EF1B1289D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496800"/>
            <a:ext cx="7635600" cy="58644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Periodic 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8524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21CF2-6166-4FED-B8D4-2FDBC4854E07}" type="slidenum">
              <a:t>17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kinds of composite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gnitive representations (Level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al artefacts (Level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ality on the side of the patient (Level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1594800">
            <a:off x="515520" y="2924280"/>
            <a:ext cx="914400" cy="647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785000">
            <a:off x="2437920" y="3047760"/>
            <a:ext cx="1957680" cy="647640"/>
          </a:xfrm>
          <a:custGeom>
            <a:avLst/>
            <a:gdLst>
              <a:gd name="textAreaLeft" fmla="*/ 305640 w 1957680"/>
              <a:gd name="textAreaRight" fmla="*/ 1713240 w 1957680"/>
              <a:gd name="textAreaTop" fmla="*/ 162000 h 647640"/>
              <a:gd name="textAreaBottom" fmla="*/ 486000 h 647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5484800">
            <a:off x="6408360" y="5080680"/>
            <a:ext cx="1212840" cy="1086120"/>
          </a:xfrm>
          <a:custGeom>
            <a:avLst/>
            <a:gdLst>
              <a:gd name="textAreaLeft" fmla="*/ 189360 w 1212840"/>
              <a:gd name="textAreaRight" fmla="*/ 1061280 w 1212840"/>
              <a:gd name="textAreaTop" fmla="*/ 271440 h 1086120"/>
              <a:gd name="textAreaBottom" fmla="*/ 814680 h 1086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BD444-7672-46DA-BB28-A515CEADD1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639CC-0E43-4E65-AEB6-6FF416AF93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b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ational Model of Anat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Ontology, OBO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GO – Functional Genomics Investigation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I Thesaur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medical Image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799A-23E4-4E91-8DD8-6644DB5BE8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ar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1785000">
            <a:off x="1090080" y="2189160"/>
            <a:ext cx="3405240" cy="1181160"/>
          </a:xfrm>
          <a:custGeom>
            <a:avLst/>
            <a:gdLst>
              <a:gd name="textAreaLeft" fmla="*/ 532080 w 3405240"/>
              <a:gd name="textAreaRight" fmla="*/ 2979720 w 3405240"/>
              <a:gd name="textAreaTop" fmla="*/ 295200 h 1181160"/>
              <a:gd name="textAreaBottom" fmla="*/ 885960 h 1181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B1005-26D8-46B1-A4F2-B930C083FF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677D5-EDC2-410F-A7B3-A3C453E0A58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17E48-D7F5-4E3A-9879-D8EEF544E25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685800" y="4952880"/>
          <a:ext cx="8229600" cy="1909800"/>
        </p:xfrm>
        <a:graphic>
          <a:graphicData uri="http://schemas.openxmlformats.org/drawingml/2006/table">
            <a:tbl>
              <a:tblPr/>
              <a:tblGrid>
                <a:gridCol w="609480"/>
                <a:gridCol w="1905120"/>
                <a:gridCol w="4119480"/>
                <a:gridCol w="981000"/>
                <a:gridCol w="614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287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C3300 Dust Collector F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lmer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68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r Drive Bel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172200" y="304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insta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55468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21A92-37A3-4598-8DF8-41CA3B34D2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, inventories: represent what is particular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instances (OB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, terminologies, catalogs: represent what is general in reali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ypes (OB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1D8E6-73E4-4191-9EFE-3AAA6B2330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ontologies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6EBC9-F4A5-4A67-9F77-1487EE4811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tologies do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present concepts in people’s h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397160" y="1676520"/>
            <a:ext cx="4927320" cy="2361960"/>
          </a:xfrm>
          <a:custGeom>
            <a:avLst/>
            <a:gdLst/>
            <a:ahLst/>
            <a:rect l="l" t="t" r="r" b="b"/>
            <a:pathLst>
              <a:path w="4120" h="1496">
                <a:moveTo>
                  <a:pt x="320" y="1208"/>
                </a:moveTo>
                <a:cubicBezTo>
                  <a:pt x="2164" y="1352"/>
                  <a:pt x="4008" y="1496"/>
                  <a:pt x="4064" y="1304"/>
                </a:cubicBezTo>
                <a:cubicBezTo>
                  <a:pt x="4120" y="1112"/>
                  <a:pt x="1312" y="112"/>
                  <a:pt x="656" y="56"/>
                </a:cubicBezTo>
                <a:cubicBezTo>
                  <a:pt x="0" y="0"/>
                  <a:pt x="64" y="484"/>
                  <a:pt x="128" y="968"/>
                </a:cubicBezTo>
              </a:path>
            </a:pathLst>
          </a:custGeom>
          <a:noFill/>
          <a:ln w="187200">
            <a:solidFill>
              <a:srgbClr val="ff00ff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A33D1-61B5-4968-BA44-52AE6BE732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ung” is not the name of a 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s do not stan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edn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to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FE687-8D16-4158-8C4F-D330E3FCE21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MLS Semantic Network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is_a B =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narrower in meaning than B</a:t>
            </a:r>
            <a:br>
              <a:rPr sz="4000"/>
            </a:b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 part_of B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=de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385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es one or more other physical uni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and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stand fo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7AE5-6454-4675-A946-3082954A689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685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ople who think ontologies are representations of concepts make mistak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genital absent nippl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ip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ailure to introduce or to remove other tube or instrumen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cteri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a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perimental model of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C300B-5DDB-40DF-A6FB-56A033C4C39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ontology as a tool for biomedical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AE3D-F06C-4F1A-917C-6C0044DBF7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is a tool of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do not describe the concepts in scientists’ h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describe the types in reality, as a step towards finding ways to reason about (and treat) instances of thes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E40E1-6ECB-4082-839C-770CA49E5FC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linician has a cognitive representation which involves theoretical knowledge derived from text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28800" y="3733920"/>
            <a:ext cx="4648320" cy="68580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DD9D8-0537-400F-A28B-417274C163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is a representation of types in re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48320" y="4038480"/>
            <a:ext cx="1828800" cy="381240"/>
          </a:xfrm>
          <a:prstGeom prst="line">
            <a:avLst/>
          </a:prstGeom>
          <a:ln w="2030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3A83-E6BC-4464-99EF-227EA32DBA6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kinds of composite representational artifa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3520" y="23320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tologies repres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E3C96-C56A-4E4D-ACF6-1AD33C5B6B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stances stand in similarity re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ank and Bill are similar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humans, mammals, animals, etc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, mammal and animal are types at different levels of gran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AFCB-D70C-404B-933E-6FCEDED804E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688680" y="3390480"/>
            <a:ext cx="1597680" cy="1410840"/>
            <a:chOff x="688680" y="3390480"/>
            <a:chExt cx="1597680" cy="1410840"/>
          </a:xfrm>
        </p:grpSpPr>
        <p:sp>
          <p:nvSpPr>
            <p:cNvPr id="133" name=""/>
            <p:cNvSpPr/>
            <p:nvPr/>
          </p:nvSpPr>
          <p:spPr>
            <a:xfrm>
              <a:off x="1066680" y="3885840"/>
              <a:ext cx="38124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"/>
            <p:cNvCxnSpPr>
              <a:stCxn id="133" idx="4"/>
              <a:endCxn id="135" idx="2"/>
            </p:cNvCxnSpPr>
            <p:nvPr/>
          </p:nvCxnSpPr>
          <p:spPr>
            <a:xfrm flipV="1">
              <a:off x="1447920" y="3390480"/>
              <a:ext cx="838800" cy="7624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36" name=""/>
            <p:cNvSpPr/>
            <p:nvPr/>
          </p:nvSpPr>
          <p:spPr>
            <a:xfrm>
              <a:off x="688680" y="4341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iame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05028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209680" y="2628360"/>
            <a:ext cx="1219320" cy="1336680"/>
            <a:chOff x="2209680" y="2628360"/>
            <a:chExt cx="1219320" cy="1336680"/>
          </a:xfrm>
        </p:grpSpPr>
        <p:sp>
          <p:nvSpPr>
            <p:cNvPr id="135" name=""/>
            <p:cNvSpPr/>
            <p:nvPr/>
          </p:nvSpPr>
          <p:spPr>
            <a:xfrm>
              <a:off x="2286000" y="3048120"/>
              <a:ext cx="380880" cy="53316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9" name=""/>
            <p:cNvCxnSpPr>
              <a:stCxn id="135" idx="4"/>
              <a:endCxn id="140" idx="2"/>
            </p:cNvCxnSpPr>
            <p:nvPr/>
          </p:nvCxnSpPr>
          <p:spPr>
            <a:xfrm flipV="1">
              <a:off x="2666520" y="2628360"/>
              <a:ext cx="762840" cy="68652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1" name=""/>
            <p:cNvSpPr/>
            <p:nvPr/>
          </p:nvSpPr>
          <p:spPr>
            <a:xfrm>
              <a:off x="2209680" y="3505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c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42" name=""/>
          <p:cNvCxnSpPr>
            <a:stCxn id="143" idx="4"/>
            <a:endCxn id="144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grpSp>
        <p:nvGrpSpPr>
          <p:cNvPr id="145" name=""/>
          <p:cNvGrpSpPr/>
          <p:nvPr/>
        </p:nvGrpSpPr>
        <p:grpSpPr>
          <a:xfrm>
            <a:off x="5108400" y="572760"/>
            <a:ext cx="1749960" cy="1410840"/>
            <a:chOff x="5108400" y="572760"/>
            <a:chExt cx="1749960" cy="1410840"/>
          </a:xfrm>
        </p:grpSpPr>
        <p:cxnSp>
          <p:nvCxnSpPr>
            <p:cNvPr id="146" name=""/>
            <p:cNvCxnSpPr>
              <a:stCxn id="147" idx="4"/>
              <a:endCxn id="143" idx="2"/>
            </p:cNvCxnSpPr>
            <p:nvPr/>
          </p:nvCxnSpPr>
          <p:spPr>
            <a:xfrm flipV="1">
              <a:off x="5867280" y="572760"/>
              <a:ext cx="991440" cy="83880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48" name=""/>
            <p:cNvSpPr/>
            <p:nvPr/>
          </p:nvSpPr>
          <p:spPr>
            <a:xfrm>
              <a:off x="5108400" y="1523880"/>
              <a:ext cx="14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organi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144440"/>
              <a:ext cx="380880" cy="53280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248520" y="152280"/>
            <a:ext cx="1600200" cy="916920"/>
            <a:chOff x="6248520" y="152280"/>
            <a:chExt cx="1600200" cy="916920"/>
          </a:xfrm>
        </p:grpSpPr>
        <p:sp>
          <p:nvSpPr>
            <p:cNvPr id="143" name=""/>
            <p:cNvSpPr/>
            <p:nvPr/>
          </p:nvSpPr>
          <p:spPr>
            <a:xfrm>
              <a:off x="6858000" y="152280"/>
              <a:ext cx="380880" cy="5335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609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subst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4" idx="0"/>
            <a:endCxn id="151" idx="1"/>
          </p:cNvCxnSpPr>
          <p:nvPr/>
        </p:nvCxnSpPr>
        <p:spPr>
          <a:xfrm>
            <a:off x="4789440" y="2171520"/>
            <a:ext cx="165024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155" name=""/>
          <p:cNvCxnSpPr>
            <a:stCxn id="144" idx="4"/>
            <a:endCxn id="152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09520" y="1410840"/>
            <a:ext cx="1676880" cy="1220760"/>
            <a:chOff x="3809520" y="1410840"/>
            <a:chExt cx="1676880" cy="1220760"/>
          </a:xfrm>
        </p:grpSpPr>
        <p:sp>
          <p:nvSpPr>
            <p:cNvPr id="158" name=""/>
            <p:cNvSpPr/>
            <p:nvPr/>
          </p:nvSpPr>
          <p:spPr>
            <a:xfrm>
              <a:off x="4495680" y="1754280"/>
              <a:ext cx="381240" cy="48888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58" idx="4"/>
            </p:cNvCxnSpPr>
            <p:nvPr/>
          </p:nvCxnSpPr>
          <p:spPr>
            <a:xfrm flipV="1">
              <a:off x="4876560" y="1410840"/>
              <a:ext cx="610200" cy="58824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  <p:sp>
          <p:nvSpPr>
            <p:cNvPr id="154" name=""/>
            <p:cNvSpPr/>
            <p:nvPr/>
          </p:nvSpPr>
          <p:spPr>
            <a:xfrm>
              <a:off x="4250160" y="2171880"/>
              <a:ext cx="107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ani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"/>
            <p:cNvCxnSpPr>
              <a:endCxn id="158" idx="2"/>
            </p:cNvCxnSpPr>
            <p:nvPr/>
          </p:nvCxnSpPr>
          <p:spPr>
            <a:xfrm flipV="1">
              <a:off x="3809520" y="1998000"/>
              <a:ext cx="686520" cy="631080"/>
            </a:xfrm>
            <a:prstGeom prst="straightConnector1">
              <a:avLst/>
            </a:prstGeom>
            <a:ln w="22320">
              <a:solidFill>
                <a:srgbClr val="ff0000"/>
              </a:solidFill>
              <a:miter/>
            </a:ln>
          </p:spPr>
        </p:cxnSp>
      </p:grpSp>
      <p:sp>
        <p:nvSpPr>
          <p:cNvPr id="161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0200" y="5502240"/>
            <a:ext cx="211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733920" y="5410080"/>
            <a:ext cx="5181480" cy="838440"/>
            <a:chOff x="3733920" y="5410080"/>
            <a:chExt cx="5181480" cy="83844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37339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5791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3"/>
            <a:stretch/>
          </p:blipFill>
          <p:spPr>
            <a:xfrm>
              <a:off x="4724280" y="5410080"/>
              <a:ext cx="83844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4"/>
            <a:stretch/>
          </p:blipFill>
          <p:spPr>
            <a:xfrm>
              <a:off x="8077320" y="5410080"/>
              <a:ext cx="838080" cy="80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5"/>
            <a:stretch/>
          </p:blipFill>
          <p:spPr>
            <a:xfrm>
              <a:off x="6934320" y="5438880"/>
              <a:ext cx="838080" cy="80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-33480" y="2681280"/>
            <a:ext cx="1981440" cy="1281240"/>
            <a:chOff x="-33480" y="2681280"/>
            <a:chExt cx="1981440" cy="1281240"/>
          </a:xfrm>
        </p:grpSpPr>
        <p:sp>
          <p:nvSpPr>
            <p:cNvPr id="172" name=""/>
            <p:cNvSpPr/>
            <p:nvPr/>
          </p:nvSpPr>
          <p:spPr>
            <a:xfrm>
              <a:off x="609480" y="3048120"/>
              <a:ext cx="592200" cy="914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-33480" y="26812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f node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130C7-CF15-4D3B-BE7C-CE54DDAA347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ximal collection of particulars determined by a general term (‘cell’, ‘oophorectomy’ ‘VA Hospital’, ‘breast cancer patient in Buffalo VA Hospital’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las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the collection of all particular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which ‘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CBC1-22BF-4AA8-BDC7-A416311F0A1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class =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lass defined by a general term which does not designate a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. a type of Nursing Phenomenon of Physical Environment with the specific characteristics: clear liquid compound of hydrogen and oxygen that is essential for most plant and animal life influencing life and development of human be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0FEE-2ED7-42F4-96C6-1555AFE149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presentational artifact whose representational units are natural language terms (with IDs, synonyms, comments, etc.) which are intended to designate defined classe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AD6C8-C347-49F7-8145-23F991EAFA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ypes &lt; defined classes &lt; ‘concepts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l of those things which people like to call ‘concepts’ correspond to defined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gical or other procedure not carried out because of patient's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079D-0FF4-42D6-8DE9-FD90A46368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roblem of termi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data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 knowledg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800" y="3900960"/>
            <a:ext cx="819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ation consists in represent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f entities in a given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hat, then, is an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information represen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F75AB-8009-4412-8840-08A6577308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_a HCFA Common Procedure Coding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261A4-915E-4236-AA73-EDF57DA77D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ony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R, GUIDING, FAST-CATH TWO-PIECE GUIDING INTRODUCER (MODELS 406869, 406892, 406893, 406904), ACCUSTICK II WITH RO MARKER INTRODUCER SYSTEM, COOK EXTRA LARGE CHECK-FLO INTRODUCER, COOK KELLER-TIMMERMANS INTRODUCER, FAST-CATH HEMOSTASIS INTRODUCER, MAXIMUM HEMOSTASIS INTRODUCER, FAST-CATH DUO SL1 GUIDING INTRODUCER FAST-CATH DUO SL2 GUIDING INTRODUC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7FF3-8FB9-4B33-A97D-40A6F602F22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WL is a good representation of defined c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ft tissue tumor AND/OR sarc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l differentiation or development path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ccidental submersion or drowning in water transport accident injuring other specified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uture of other tendon of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55E0-029E-4292-9AFD-7451227E860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ience needs to find uniform ways of representing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tology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=def a representational artifact whose representational units (which may be drawn from a natural or from some formalized langu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are intended to re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ypes in re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ose relations between these types which obtain universally (= for all insta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is_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atomic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be of lung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B66BB-191F-4EC1-9928-97A93FCE718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division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B6253-4135-460D-BA39-8DADFFC7E9C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 a relation between types is more problematic than is standardly sup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 bei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being has_part human testi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stis part_of human being 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7366-A653-4A84-8153-CE9893158A0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tion of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a relation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part_of 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 all instance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-level p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some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testis part_of adult human b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C573-CAEE-4855-BD15-C5CB4698816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kinds of parth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instan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 nucleus part_of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6208B-FF7E-43DE-ADBA-DDDD920396B4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PART OF SOM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A90D-2301-4275-9111-9185E529454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for enduring entiti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, 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here is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, 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 is the instance-level part re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Arial"/>
              </a:rPr>
              <a:t>ALL-SOME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RUCTURE</a:t>
            </a: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05BE-61A8-4235-B041-85B729A9669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 of ensuring sensible cooperation in a massively interdisciplinary comm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971440" y="2666520"/>
            <a:ext cx="5715000" cy="34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821C7-3883-485A-88E8-B020E92566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part_of 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B part_of C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-so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the definitions in the OBO-RO 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cading of in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) withi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) between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ii) between ontologies and EHR repositories of instance-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CD526-B988-44C5-8ED6-E5DD1EC9857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ucleus is adjacent to this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ytoplasm is adjacent to this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yp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ucleus adjacent_to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ytoplasm adjacent_to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0" r="42599" b="0"/>
          <a:stretch/>
        </p:blipFill>
        <p:spPr>
          <a:xfrm>
            <a:off x="7162920" y="2892600"/>
            <a:ext cx="1523880" cy="145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C446-85EB-4E11-A9C3-7BA7959CBB7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symmetry e.g. for protein-protein interactions hmay hold only at the instanc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does not follow tha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expressed simultaneously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62FEB-5992-45E9-9565-9E1AB492BD9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BO Relation Ont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914400" y="1600200"/>
          <a:ext cx="7162920" cy="4842000"/>
        </p:xfrm>
        <a:graphic>
          <a:graphicData uri="http://schemas.openxmlformats.org/drawingml/2006/table">
            <a:tbl>
              <a:tblPr/>
              <a:tblGrid>
                <a:gridCol w="2527200"/>
                <a:gridCol w="4635720"/>
              </a:tblGrid>
              <a:tr h="105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oundational </a:t>
                      </a:r>
                      <a:br>
                        <a:rPr sz="2800"/>
                      </a:b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_a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_o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at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ed_in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acent_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mpo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ation_of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rives_from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eded_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articipatio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participant</a:t>
                      </a:r>
                      <a:br>
                        <a:rPr sz="2800"/>
                      </a:b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_ag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D2DF-7D90-4F08-B60C-391AC009862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5C2FD-EDCE-4427-AF4E-C55E2D3E55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rl Popper’s “Three World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Re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Reality = our knowledge and beliefs about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itions, Theories, Texts = formalizations of those ideas and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2384E-F709-4F09-B921-24DBDB1859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Levels to Keep Stra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1: the reality on the side of the  organism (pati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2: cognitive representations of this reality on the part of clinici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l 3: publicly accessible concretisations of these cognitive representations in textual, graphical and digital artif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e are all interested primarily in 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57AA3-C40D-4520-A8D3-0E0A4D2057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4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4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th th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gnitive representations of clinicians or research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s embodied in their theoretical and practical knowledge of the reality on the side of the 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ontology.buffalo.ed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CF8B1-3014-4206-91CD-317C7C2E5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7:14:58Z</dcterms:created>
  <dc:creator>phismith</dc:creator>
  <dc:description/>
  <dc:language>en-US</dc:language>
  <cp:lastModifiedBy>phismith</cp:lastModifiedBy>
  <dcterms:modified xsi:type="dcterms:W3CDTF">2006-03-03T05:37:15Z</dcterms:modified>
  <cp:revision>24</cp:revision>
  <dc:subject/>
  <dc:title>Slide 1</dc:title>
</cp:coreProperties>
</file>